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B594-B538-4E6D-9162-69C589B637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3CBB-BCF6-4322-AD5B-CE935F0493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B1FB-4022-4062-A9A4-855D8267D9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6A52-84C0-4D1A-A619-EB8EEB0FA9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C231-D672-43EC-B770-A7AA37E514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3F02-CE74-420F-9795-ED8743C7E6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DA81-B3C5-42B0-B6ED-8767ED60F9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DABB-EB5F-4C2E-8114-60A2712229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E2C9-BE9B-44B7-B6B6-88D0142026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2A85-C480-4C20-A931-1CDEB9C1A0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C70F-EE60-42AB-AAF8-F135755587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0012-6331-43BA-BB7B-928021B8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121-B6CD-4EEF-816E-42A2A165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436-AC1E-4FEF-A2CB-AE3EE01D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7A4E-ED21-4E24-B1A5-841400D7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962-DB72-463A-979B-F5A6284E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0EC4-8B8E-486E-84EB-D3B7DD46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FDB-93EA-4486-A29F-6E0C885C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E868-B338-4567-B25D-BEDA57E4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EB99-C8F5-4027-9F3B-83361EC7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1C82-E338-4572-8357-F450FFDA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66E-B4E7-4E6F-8AF9-96617F94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A9A0-A924-49C8-AAEF-69C8D901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80DF-403F-4662-BA0A-28E7C6CBD5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" Target="slide6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image" Target="../media/image4.png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hyperlink" Target="http://www.ageka.fr/isolation/laine_verrep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r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4360" y="1052640"/>
            <a:ext cx="7808760" cy="1908000"/>
          </a:xfrm>
          <a:prstGeom prst="rect">
            <a:avLst/>
          </a:prstGeom>
          <a:ln w="0">
            <a:noFill/>
          </a:ln>
        </p:spPr>
      </p:pic>
      <p:pic>
        <p:nvPicPr>
          <p:cNvPr id="49" name="Titre 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3860640"/>
            <a:ext cx="827712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laque de plâ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57120" y="1600200"/>
          <a:ext cx="8501040" cy="1685880"/>
        </p:xfrm>
        <a:graphic>
          <a:graphicData uri="http://schemas.openxmlformats.org/drawingml/2006/table">
            <a:tbl>
              <a:tblPr/>
              <a:tblGrid>
                <a:gridCol w="1265400"/>
                <a:gridCol w="1217520"/>
                <a:gridCol w="2446200"/>
                <a:gridCol w="1714680"/>
                <a:gridCol w="1857240"/>
              </a:tblGrid>
              <a:tr h="693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therm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ph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onvén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92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ériau de finition intérieur, utilisé pour doublage et clo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o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sible à l’humid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€ le m² et 10€ par m² pour la fin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2" name="ZoneTexte 5"/>
          <p:cNvSpPr/>
          <p:nvPr/>
        </p:nvSpPr>
        <p:spPr>
          <a:xfrm>
            <a:off x="500040" y="5072040"/>
            <a:ext cx="7929720" cy="368280"/>
          </a:xfrm>
          <a:prstGeom prst="rect">
            <a:avLst/>
          </a:prstGeom>
          <a:solidFill>
            <a:srgbClr val="f2f2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oublage de mur, création de pièce par montage de clo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ous-titre 2"/>
          <p:cNvSpPr/>
          <p:nvPr/>
        </p:nvSpPr>
        <p:spPr>
          <a:xfrm>
            <a:off x="500040" y="4286160"/>
            <a:ext cx="7929720" cy="714600"/>
          </a:xfrm>
          <a:prstGeom prst="rect">
            <a:avLst/>
          </a:prstGeom>
          <a:solidFill>
            <a:srgbClr val="f2f2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Ut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C:\Documents and Settings\pe1\Local Settings\Temporary Internet Files\Content.IE5\VCLHZTSJ\MCj04398070000[1].png"/>
          <p:cNvPicPr/>
          <p:nvPr/>
        </p:nvPicPr>
        <p:blipFill>
          <a:blip r:embed="rId1"/>
          <a:stretch/>
        </p:blipFill>
        <p:spPr>
          <a:xfrm>
            <a:off x="8317080" y="6215040"/>
            <a:ext cx="642600" cy="642960"/>
          </a:xfrm>
          <a:prstGeom prst="rect">
            <a:avLst/>
          </a:prstGeom>
          <a:ln w="0">
            <a:noFill/>
          </a:ln>
        </p:spPr>
      </p:pic>
      <p:sp>
        <p:nvSpPr>
          <p:cNvPr id="105" name="ZoneTexte 8"/>
          <p:cNvSpPr/>
          <p:nvPr/>
        </p:nvSpPr>
        <p:spPr>
          <a:xfrm>
            <a:off x="500040" y="3429000"/>
            <a:ext cx="7929720" cy="368280"/>
          </a:xfrm>
          <a:prstGeom prst="rect">
            <a:avLst/>
          </a:prstGeom>
          <a:solidFill>
            <a:srgbClr val="f2f2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lles sont constituées de plâtre moulé entre deux couches de car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renoveo.com/upload/152.JPG"/>
          <p:cNvPicPr/>
          <p:nvPr/>
        </p:nvPicPr>
        <p:blipFill>
          <a:blip r:embed="rId2"/>
          <a:stretch/>
        </p:blipFill>
        <p:spPr>
          <a:xfrm>
            <a:off x="571680" y="214200"/>
            <a:ext cx="1811160" cy="13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re 1" descr=""/>
          <p:cNvPicPr/>
          <p:nvPr/>
        </p:nvPicPr>
        <p:blipFill>
          <a:blip r:embed="rId1"/>
          <a:stretch/>
        </p:blipFill>
        <p:spPr>
          <a:xfrm>
            <a:off x="701640" y="73080"/>
            <a:ext cx="7796160" cy="2219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28840" y="2857320"/>
            <a:ext cx="6400800" cy="757080"/>
          </a:xfrm>
          <a:prstGeom prst="rect">
            <a:avLst/>
          </a:prstGeom>
          <a:solidFill>
            <a:srgbClr val="dce6f2"/>
          </a:solidFill>
          <a:ln w="255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Laine de ver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ous-titre 2"/>
          <p:cNvSpPr/>
          <p:nvPr/>
        </p:nvSpPr>
        <p:spPr>
          <a:xfrm>
            <a:off x="1428840" y="4786200"/>
            <a:ext cx="6400800" cy="757440"/>
          </a:xfrm>
          <a:prstGeom prst="rect">
            <a:avLst/>
          </a:prstGeom>
          <a:solidFill>
            <a:srgbClr val="dce6f2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Liè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C:\Documents and Settings\pe1\Local Settings\Temporary Internet Files\Content.IE5\VCLHZTSJ\MCj04398070000[1]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17080" y="6215040"/>
            <a:ext cx="642600" cy="642960"/>
          </a:xfrm>
          <a:prstGeom prst="rect">
            <a:avLst/>
          </a:prstGeom>
          <a:ln w="0">
            <a:noFill/>
          </a:ln>
        </p:spPr>
      </p:pic>
      <p:sp>
        <p:nvSpPr>
          <p:cNvPr id="54" name="Sous-titre 2"/>
          <p:cNvSpPr/>
          <p:nvPr/>
        </p:nvSpPr>
        <p:spPr>
          <a:xfrm>
            <a:off x="1428840" y="3786120"/>
            <a:ext cx="6400800" cy="757440"/>
          </a:xfrm>
          <a:prstGeom prst="rect">
            <a:avLst/>
          </a:prstGeom>
          <a:solidFill>
            <a:srgbClr val="dce6f2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Mousse acous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aine de ver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7972560" cy="1828800"/>
        </p:xfrm>
        <a:graphic>
          <a:graphicData uri="http://schemas.openxmlformats.org/drawingml/2006/table">
            <a:tbl>
              <a:tblPr/>
              <a:tblGrid>
                <a:gridCol w="1257480"/>
                <a:gridCol w="1285560"/>
                <a:gridCol w="1285920"/>
                <a:gridCol w="2928960"/>
                <a:gridCol w="121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therm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ph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onvén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ès bo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ès bo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illeur rapport qualité/pr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ipulation désagréable.</a:t>
                      </a:r>
                      <a:br>
                        <a:rPr sz="1800"/>
                      </a:b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icilement recyc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urellement incombust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€  le m² pour 10 cm épaiss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" name="ZoneTexte 5"/>
          <p:cNvSpPr/>
          <p:nvPr/>
        </p:nvSpPr>
        <p:spPr>
          <a:xfrm>
            <a:off x="500040" y="4572000"/>
            <a:ext cx="7929720" cy="642600"/>
          </a:xfrm>
          <a:prstGeom prst="rect">
            <a:avLst/>
          </a:prstGeom>
          <a:solidFill>
            <a:srgbClr val="dce6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tout : toiture, combles, sols, dalle flottante, murs (sauf s'il y a de la pression/ du poi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ous-titre 2"/>
          <p:cNvSpPr/>
          <p:nvPr/>
        </p:nvSpPr>
        <p:spPr>
          <a:xfrm>
            <a:off x="500040" y="3643200"/>
            <a:ext cx="7929720" cy="714600"/>
          </a:xfrm>
          <a:prstGeom prst="rect">
            <a:avLst/>
          </a:prstGeom>
          <a:solidFill>
            <a:srgbClr val="dce6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t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C:\Documents and Settings\pe1\Local Settings\Temporary Internet Files\Content.IE5\VCLHZTSJ\MCj0439807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17080" y="6215040"/>
            <a:ext cx="642600" cy="642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Afficher l'image en taille réell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285840"/>
            <a:ext cx="1785960" cy="12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28560" y="274680"/>
            <a:ext cx="62578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ousse acoustique alvéol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7972560" cy="1554120"/>
        </p:xfrm>
        <a:graphic>
          <a:graphicData uri="http://schemas.openxmlformats.org/drawingml/2006/table">
            <a:tbl>
              <a:tblPr/>
              <a:tblGrid>
                <a:gridCol w="1257480"/>
                <a:gridCol w="1285560"/>
                <a:gridCol w="2643480"/>
                <a:gridCol w="1571400"/>
                <a:gridCol w="12146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therm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ph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onvén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ès bo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e facile car auto-adhésif, très bonne tenue dans le tem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12€ le m² épaisseur 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3" name="ZoneTexte 5"/>
          <p:cNvSpPr/>
          <p:nvPr/>
        </p:nvSpPr>
        <p:spPr>
          <a:xfrm>
            <a:off x="500040" y="4572000"/>
            <a:ext cx="7929720" cy="368280"/>
          </a:xfrm>
          <a:prstGeom prst="rect">
            <a:avLst/>
          </a:prstGeom>
          <a:solidFill>
            <a:srgbClr val="dce6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tout : Planchers flottants, murs, sols, toi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ous-titre 2"/>
          <p:cNvSpPr/>
          <p:nvPr/>
        </p:nvSpPr>
        <p:spPr>
          <a:xfrm>
            <a:off x="500040" y="3643200"/>
            <a:ext cx="7929720" cy="714600"/>
          </a:xfrm>
          <a:prstGeom prst="rect">
            <a:avLst/>
          </a:prstGeom>
          <a:solidFill>
            <a:srgbClr val="dce6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t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Documents and Settings\pe1\Local Settings\Temporary Internet Files\Content.IE5\VCLHZTSJ\MCj0439807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17080" y="6215040"/>
            <a:ext cx="642600" cy="64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3"/>
          <a:stretch/>
        </p:blipFill>
        <p:spPr>
          <a:xfrm>
            <a:off x="714240" y="285840"/>
            <a:ext cx="1785960" cy="11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iè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7972560" cy="1554120"/>
        </p:xfrm>
        <a:graphic>
          <a:graphicData uri="http://schemas.openxmlformats.org/drawingml/2006/table">
            <a:tbl>
              <a:tblPr/>
              <a:tblGrid>
                <a:gridCol w="1185840"/>
                <a:gridCol w="1143000"/>
                <a:gridCol w="2857680"/>
                <a:gridCol w="1571400"/>
                <a:gridCol w="12146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therm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ph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onvén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ès bo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lente durabilité. Léger.</a:t>
                      </a:r>
                      <a:br>
                        <a:rPr sz="1800"/>
                      </a:b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olo. Insensible à l’e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30€ le m² pour 10cm épaiss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9" name="ZoneTexte 5"/>
          <p:cNvSpPr/>
          <p:nvPr/>
        </p:nvSpPr>
        <p:spPr>
          <a:xfrm>
            <a:off x="500040" y="4572000"/>
            <a:ext cx="7929720" cy="368280"/>
          </a:xfrm>
          <a:prstGeom prst="rect">
            <a:avLst/>
          </a:prstGeom>
          <a:solidFill>
            <a:srgbClr val="dce6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tout : toiture, combles, sols, dalle flottante, m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ous-titre 2"/>
          <p:cNvSpPr/>
          <p:nvPr/>
        </p:nvSpPr>
        <p:spPr>
          <a:xfrm>
            <a:off x="500040" y="3643200"/>
            <a:ext cx="7929720" cy="714600"/>
          </a:xfrm>
          <a:prstGeom prst="rect">
            <a:avLst/>
          </a:prstGeom>
          <a:solidFill>
            <a:srgbClr val="dce6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t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C:\Documents and Settings\pe1\Local Settings\Temporary Internet Files\Content.IE5\VCLHZTSJ\MCj0439807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17080" y="6215040"/>
            <a:ext cx="642600" cy="642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Le Liège"/>
          <p:cNvPicPr/>
          <p:nvPr/>
        </p:nvPicPr>
        <p:blipFill>
          <a:blip r:embed="rId3"/>
          <a:stretch/>
        </p:blipFill>
        <p:spPr>
          <a:xfrm>
            <a:off x="1214280" y="142920"/>
            <a:ext cx="857520" cy="13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tre 1" descr=""/>
          <p:cNvPicPr/>
          <p:nvPr/>
        </p:nvPicPr>
        <p:blipFill>
          <a:blip r:embed="rId1"/>
          <a:stretch/>
        </p:blipFill>
        <p:spPr>
          <a:xfrm>
            <a:off x="480960" y="347760"/>
            <a:ext cx="8255160" cy="16095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357200" y="2285640"/>
            <a:ext cx="6400800" cy="757080"/>
          </a:xfrm>
          <a:prstGeom prst="rect">
            <a:avLst/>
          </a:prstGeom>
          <a:solidFill>
            <a:srgbClr val="f2f2f2"/>
          </a:solidFill>
          <a:ln w="255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Agglo bé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ous-titre 2"/>
          <p:cNvSpPr/>
          <p:nvPr/>
        </p:nvSpPr>
        <p:spPr>
          <a:xfrm>
            <a:off x="1357200" y="3214800"/>
            <a:ext cx="6400800" cy="757080"/>
          </a:xfrm>
          <a:prstGeom prst="rect">
            <a:avLst/>
          </a:prstGeom>
          <a:solidFill>
            <a:srgbClr val="f2f2f2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Béton arm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ous-titre 2"/>
          <p:cNvSpPr/>
          <p:nvPr/>
        </p:nvSpPr>
        <p:spPr>
          <a:xfrm>
            <a:off x="1357200" y="4143240"/>
            <a:ext cx="6400800" cy="757440"/>
          </a:xfrm>
          <a:prstGeom prst="rect">
            <a:avLst/>
          </a:prstGeom>
          <a:solidFill>
            <a:srgbClr val="f2f2f2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Béton cellul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ous-titre 2"/>
          <p:cNvSpPr/>
          <p:nvPr/>
        </p:nvSpPr>
        <p:spPr>
          <a:xfrm>
            <a:off x="1357200" y="5087880"/>
            <a:ext cx="6400800" cy="757440"/>
          </a:xfrm>
          <a:prstGeom prst="rect">
            <a:avLst/>
          </a:prstGeom>
          <a:solidFill>
            <a:srgbClr val="f2f2f2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laque de plâ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C:\Documents and Settings\pe1\Local Settings\Temporary Internet Files\Content.IE5\VCLHZTSJ\MCj04398070000[1].png"/>
          <p:cNvPicPr/>
          <p:nvPr/>
        </p:nvPicPr>
        <p:blipFill>
          <a:blip r:embed="rId2"/>
          <a:stretch/>
        </p:blipFill>
        <p:spPr>
          <a:xfrm>
            <a:off x="8317080" y="6215040"/>
            <a:ext cx="642600" cy="6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gglo bé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7972560" cy="1554120"/>
        </p:xfrm>
        <a:graphic>
          <a:graphicData uri="http://schemas.openxmlformats.org/drawingml/2006/table">
            <a:tbl>
              <a:tblPr/>
              <a:tblGrid>
                <a:gridCol w="1185840"/>
                <a:gridCol w="1143000"/>
                <a:gridCol w="2714760"/>
                <a:gridCol w="1643040"/>
                <a:gridCol w="1285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therm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ph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onvén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ès fa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lente durabilité. Mise en œuvre facile. Très bon rapport qualité/pri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u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€ le m² en 20 cm d’épaiss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1" name="ZoneTexte 5"/>
          <p:cNvSpPr/>
          <p:nvPr/>
        </p:nvSpPr>
        <p:spPr>
          <a:xfrm>
            <a:off x="500040" y="5072040"/>
            <a:ext cx="7929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ur extérieur, mur intérieur. Porteur à partir de 15 cm d’épaisse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ous-titre 2"/>
          <p:cNvSpPr/>
          <p:nvPr/>
        </p:nvSpPr>
        <p:spPr>
          <a:xfrm>
            <a:off x="500040" y="4286160"/>
            <a:ext cx="7929720" cy="714600"/>
          </a:xfrm>
          <a:prstGeom prst="rect">
            <a:avLst/>
          </a:prstGeom>
          <a:solidFill>
            <a:srgbClr val="f2f2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Ut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:\Documents and Settings\pe1\Local Settings\Temporary Internet Files\Content.IE5\VCLHZTSJ\MCj04398070000[1].png"/>
          <p:cNvPicPr/>
          <p:nvPr/>
        </p:nvPicPr>
        <p:blipFill>
          <a:blip r:embed="rId1"/>
          <a:stretch/>
        </p:blipFill>
        <p:spPr>
          <a:xfrm>
            <a:off x="8317080" y="6215040"/>
            <a:ext cx="642600" cy="642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mara-materiaux.com/images/cache/moellon_100x91.jpg"/>
          <p:cNvPicPr/>
          <p:nvPr/>
        </p:nvPicPr>
        <p:blipFill>
          <a:blip r:embed="rId2"/>
          <a:stretch/>
        </p:blipFill>
        <p:spPr>
          <a:xfrm>
            <a:off x="893880" y="214200"/>
            <a:ext cx="1463400" cy="133200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8"/>
          <p:cNvSpPr/>
          <p:nvPr/>
        </p:nvSpPr>
        <p:spPr>
          <a:xfrm>
            <a:off x="500040" y="3214800"/>
            <a:ext cx="7929720" cy="916920"/>
          </a:xfrm>
          <a:prstGeom prst="rect">
            <a:avLst/>
          </a:prstGeom>
          <a:solidFill>
            <a:srgbClr val="f2f2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'est un bloc de béton moulé, gris, en forme de parallélépipède creux. Il est composé de 87% de granulats (pierres, graviers, sables), de 7% de ciment (calcaire et argile) et de 6% d'ea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éton arm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7972560" cy="1554120"/>
        </p:xfrm>
        <a:graphic>
          <a:graphicData uri="http://schemas.openxmlformats.org/drawingml/2006/table">
            <a:tbl>
              <a:tblPr/>
              <a:tblGrid>
                <a:gridCol w="1185840"/>
                <a:gridCol w="1143000"/>
                <a:gridCol w="2714760"/>
                <a:gridCol w="1571400"/>
                <a:gridCol w="13575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therm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ph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onvén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lente durabilité. Mise en œuvre facile. Très bon rapport qualité/pri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u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€ le m² en 15 cm d’épaiss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8" name="ZoneTexte 5"/>
          <p:cNvSpPr/>
          <p:nvPr/>
        </p:nvSpPr>
        <p:spPr>
          <a:xfrm>
            <a:off x="500040" y="5072040"/>
            <a:ext cx="7929720" cy="368280"/>
          </a:xfrm>
          <a:prstGeom prst="rect">
            <a:avLst/>
          </a:prstGeom>
          <a:solidFill>
            <a:srgbClr val="f2f2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ur extérieur, mur intéri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ous-titre 2"/>
          <p:cNvSpPr/>
          <p:nvPr/>
        </p:nvSpPr>
        <p:spPr>
          <a:xfrm>
            <a:off x="500040" y="4286160"/>
            <a:ext cx="7929720" cy="714600"/>
          </a:xfrm>
          <a:prstGeom prst="rect">
            <a:avLst/>
          </a:prstGeom>
          <a:solidFill>
            <a:srgbClr val="f2f2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Ut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C:\Documents and Settings\pe1\Local Settings\Temporary Internet Files\Content.IE5\VCLHZTSJ\MCj04398070000[1].png"/>
          <p:cNvPicPr/>
          <p:nvPr/>
        </p:nvPicPr>
        <p:blipFill>
          <a:blip r:embed="rId1"/>
          <a:stretch/>
        </p:blipFill>
        <p:spPr>
          <a:xfrm>
            <a:off x="8317080" y="6215040"/>
            <a:ext cx="642600" cy="64296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8"/>
          <p:cNvSpPr/>
          <p:nvPr/>
        </p:nvSpPr>
        <p:spPr>
          <a:xfrm>
            <a:off x="500040" y="3214800"/>
            <a:ext cx="7929720" cy="916920"/>
          </a:xfrm>
          <a:prstGeom prst="rect">
            <a:avLst/>
          </a:prstGeom>
          <a:solidFill>
            <a:srgbClr val="f2f2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béton est un mélange de ciment, de granulats (sable, gravier, pierrailles) et de l'eau. Le béton armé peut être défini comme l'enrobage par du béton, d’aciers appelés arma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9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1584360" cy="11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éton cellul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57120" y="1528920"/>
          <a:ext cx="8215560" cy="1874520"/>
        </p:xfrm>
        <a:graphic>
          <a:graphicData uri="http://schemas.openxmlformats.org/drawingml/2006/table">
            <a:tbl>
              <a:tblPr/>
              <a:tblGrid>
                <a:gridCol w="1268640"/>
                <a:gridCol w="1152360"/>
                <a:gridCol w="2208240"/>
                <a:gridCol w="1622520"/>
                <a:gridCol w="1963800"/>
              </a:tblGrid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therm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lation ph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onvén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ès bo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ès Bo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lente durabilité. Produit nature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€ le m² en 7 cm d'épaisseur et 15€ par m² pour la fin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5" name="ZoneTexte 5"/>
          <p:cNvSpPr/>
          <p:nvPr/>
        </p:nvSpPr>
        <p:spPr>
          <a:xfrm>
            <a:off x="500040" y="5072040"/>
            <a:ext cx="7929720" cy="368280"/>
          </a:xfrm>
          <a:prstGeom prst="rect">
            <a:avLst/>
          </a:prstGeom>
          <a:solidFill>
            <a:srgbClr val="f2f2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ur extérieur, mur intéri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ous-titre 2"/>
          <p:cNvSpPr/>
          <p:nvPr/>
        </p:nvSpPr>
        <p:spPr>
          <a:xfrm>
            <a:off x="500040" y="4286160"/>
            <a:ext cx="7929720" cy="714600"/>
          </a:xfrm>
          <a:prstGeom prst="rect">
            <a:avLst/>
          </a:prstGeom>
          <a:solidFill>
            <a:srgbClr val="f2f2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Ut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C:\Documents and Settings\pe1\Local Settings\Temporary Internet Files\Content.IE5\VCLHZTSJ\MCj04398070000[1].png"/>
          <p:cNvPicPr/>
          <p:nvPr/>
        </p:nvPicPr>
        <p:blipFill>
          <a:blip r:embed="rId1"/>
          <a:stretch/>
        </p:blipFill>
        <p:spPr>
          <a:xfrm>
            <a:off x="8317080" y="6215040"/>
            <a:ext cx="642600" cy="642960"/>
          </a:xfrm>
          <a:prstGeom prst="rect">
            <a:avLst/>
          </a:prstGeom>
          <a:ln w="0">
            <a:noFill/>
          </a:ln>
        </p:spPr>
      </p:pic>
      <p:sp>
        <p:nvSpPr>
          <p:cNvPr id="98" name="ZoneTexte 8"/>
          <p:cNvSpPr/>
          <p:nvPr/>
        </p:nvSpPr>
        <p:spPr>
          <a:xfrm>
            <a:off x="500040" y="3500280"/>
            <a:ext cx="7929720" cy="642600"/>
          </a:xfrm>
          <a:prstGeom prst="rect">
            <a:avLst/>
          </a:prstGeom>
          <a:solidFill>
            <a:srgbClr val="f2f2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abriqué en mélangeant de l'eau, du sable, du ciment, de la poudre d'aluminium ou de la pâte d'aluminium, et de l'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://www.xella.fr/images/fra/rd_fr/Bloc_ok_9.jpg"/>
          <p:cNvPicPr/>
          <p:nvPr/>
        </p:nvPicPr>
        <p:blipFill>
          <a:blip r:embed="rId2"/>
          <a:stretch/>
        </p:blipFill>
        <p:spPr>
          <a:xfrm>
            <a:off x="500040" y="142920"/>
            <a:ext cx="1928880" cy="142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9:32:11Z</dcterms:created>
  <dc:creator/>
  <dc:description/>
  <dc:language>en-US</dc:language>
  <cp:lastModifiedBy>Dominique Sauzeau</cp:lastModifiedBy>
  <dcterms:modified xsi:type="dcterms:W3CDTF">2013-10-02T09:10:27Z</dcterms:modified>
  <cp:revision>67</cp:revision>
  <dc:subject/>
  <dc:title>Les matériaux isolants phoniques</dc:title>
</cp:coreProperties>
</file>